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38E-CB18-4264-9942-F4F4C84C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1AB-9223-4F4E-9B1A-3A21836C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42F-B22B-4B05-BF12-DB7A46BD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7E8-3CB3-4392-9092-26D6CDB0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EC7-1003-40C7-9501-A1D9268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B93-C114-4CB4-8E5F-B925B07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688-A84B-4CDD-9BC7-EE8E7478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73B-D3C3-468F-9366-FC15577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3A7-9C2E-42B8-A526-EE7F98AF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46D-70C5-4378-9A9A-7AF77488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2F1-8456-44AE-B7EA-8AE5676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B9C-40EE-49AF-82B4-274B820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53DC-044D-45ED-9677-F6694B6E75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msmt.cz/" TargetMode="External"/><Relationship Id="rId5" Type="http://schemas.openxmlformats.org/officeDocument/2006/relationships/hyperlink" Target="http://www.msmt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hyperlink" Target="http://www.strukturalni-fondy.cz/" TargetMode="External"/><Relationship Id="rId11" Type="http://schemas.openxmlformats.org/officeDocument/2006/relationships/hyperlink" Target="http://www.strukturalni-fondy.cz/" TargetMode="External"/><Relationship Id="rId12" Type="http://schemas.openxmlformats.org/officeDocument/2006/relationships/hyperlink" Target="http://www.strukturalni-fondy.cz/" TargetMode="External"/><Relationship Id="rId13" Type="http://schemas.openxmlformats.org/officeDocument/2006/relationships/hyperlink" Target="http://www.strukturalni-fondy.cz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hyperlink" Target="mailto:esfprovs@msmt.cz" TargetMode="External"/><Relationship Id="rId4" Type="http://schemas.openxmlformats.org/officeDocument/2006/relationships/hyperlink" Target="mailto:esfprovs@msmt.cz" TargetMode="External"/><Relationship Id="rId5" Type="http://schemas.openxmlformats.org/officeDocument/2006/relationships/hyperlink" Target="mailto:esfprovs@msmt.cz" TargetMode="External"/><Relationship Id="rId6" Type="http://schemas.openxmlformats.org/officeDocument/2006/relationships/hyperlink" Target="mailto:esfprovs@msmt.cz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1484280"/>
            <a:ext cx="87361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Priorita 3 OP RLZ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–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Rozvoj celoživotního učení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Opatření 3.2 – Podpora terciárního vzdělávání, výzkumu a vývoje</a:t>
            </a: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PhDr. Kateřina Pösingerová, CSc. listopad/prosinec 2005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6AD-F0DB-47D6-A88C-24A23C43C2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Žádost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kládána je v 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ogramu Benefi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jemcem žádostí je Konečný příjemce, tj. oddělení pomoci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FC2-B494-4F2B-AFA8-91D3D7C7A7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688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mity pro předkládání žá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ba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ě 2 roky ode dne potvrzení přijetí rozhodnut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poskytnutí dotace Konečným uživate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ční limity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í výše přidělených prostředků 10 mil.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ální výše přidělených prostředků 500 tis.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3C1-9CCC-4824-8F46-D6D79695DF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136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ecn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důvodnění projektu (zdůvodnění záměru, vazba na strategické dokumenty, přínos pro cílovou skupin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ílová skupina (její přiměřenost a zapojení do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e projektu (klíčové aktivity, stádia realizace, monitorování, zkušenosti s řízením projektů, publicita, udržitelnost projekt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y a výstupy (kvantifikace výsledků a výstupů a jejich zajištěn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ální témata (rovné příležitosti, udržitelný rozvoj, informační společnost, místní iniciativ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BFF-84B2-4006-B19E-65C9450077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k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tví – zapojení partnerů, kteří se zabývají řešenou problematikou, do projektu, vymezení rolí jednotlivých partne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měřenost výše požadovaných finančních prostředků k cílům a obsah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B08-80DF-4856-AD0F-9AA2E965BE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ozpočet GS Opatření 3.2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55640" y="1981080"/>
          <a:ext cx="7702200" cy="1016280"/>
        </p:xfrm>
        <a:graphic>
          <a:graphicData uri="http://schemas.openxmlformats.org/drawingml/2006/table">
            <a:tbl>
              <a:tblPr/>
              <a:tblGrid>
                <a:gridCol w="1395360"/>
                <a:gridCol w="1394280"/>
                <a:gridCol w="1395720"/>
                <a:gridCol w="1452960"/>
                <a:gridCol w="206388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race 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9912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A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kvalitňování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B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učitelských studijních progra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dalšího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D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lidských zdrojů v oblasti výzkumu a vývo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6DC-D847-4074-AA8C-BECA88C44F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nancování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orma předfinancování (ve výši 25 % celkových uznatelných výdajů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edná se o kapitálové invest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adatel musí mít pro projekt zřízen zvláštní bankovní úč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tvrtletní vyúčtování plateb (současně s podáváním zpráv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průběhu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inancovány pouz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znatelné výdaj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daje uznatelné EK z hlediska OP RLZ (nelze zaměňovat s daňově uznatelnými nákla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B77-84DD-40B2-9807-B985D28572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innosti při tvorbě dokumentace a vedení účetnictví projekt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přesné a pravidelné záznamy o průběh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ést účetnictv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 smyslu zákona o účetnictví a vést oddělené transparentní analytické účty souvisejí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realizac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chivovat dokument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jekt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dobu 10 l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 obdržení závěrečné plat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E82-7A4B-4002-B5EA-E68F4ACDF6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rch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ečný uživatel archivuje zejmé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luvní dokumenty vztahujících se k projek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ňové do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pisy z úč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žádosti o proplacení výdajů, včetně konkrétních přílo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y spojené s prováděním k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respondenci se všemi subjekty zapojenými do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 Konečným příjemcem, partnery, dodavate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 a hodnotící zprávy za proj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ACE-7B7A-499E-88A8-C99E49F5CA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ubli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a propagační aktivity Konečného uživatele (v soulad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izuální identitou ESF v Č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- viz 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ět finanční spoluúčast EU, resp. ESF na všech výstup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loga EU a ESF na informačních, studijních a dalších materiálech souvisejících s proje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vlastních webových stránkách odkazovat na webové stránky EU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na stránky informující o ESF v 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vlajky EU a další informační materiály v místnostech, kde se konají informační akce o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 spojené s publicitou projektu jsou uznatelnými výda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940-161F-494D-B973-80CB422208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žitečné od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msmt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9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0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1"/>
              </a:rPr>
              <a:t>strukturalni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2"/>
              </a:rPr>
              <a:t>-fondy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3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4BB-C2E6-4DA2-81B2-F99ECB9A66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ční orgán pro Opatření 3.2, tj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příjem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dělení pomoci z ESF (303) při odboru vysokých škol (30) skupiny vědy a vysokého školství MŠMT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uživat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patření 3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praxe zabývající se vzdělávání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ociace zaměstna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580-594E-45D4-811F-CA2F936D6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msmt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6DC-7B92-41B4-9A4D-5C3C7600B9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šeobecné zaměření pro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zaměstnatelnosti a sociálního začleňování znevýhodněných jednotliv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podpůrných opatření k rozvoji systémů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struktur a k posilování kapacit poskytovatelů služeb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cílové skup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1E6-B0AF-4B5D-A667-377B7E4BF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gramy podpory Opatření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kvalitňování vzdělávání na vysokých školách (P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učitelských studijních programů (Pp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dalšího vzdělávání na vysokých školách (P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lidských zdrojů v oblasti výzkumu a vývoje (Pp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C23-E53E-43BF-8BE9-D980C6A27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A - Zkvalitňování vzdělávání na vysokých školách v rámci bakalářských, magisterských a doktor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1471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hloubení vnitřní diferenciace a zejména kvalitativního rozvoje bakalářských, magisterských a doktorských studijních programů, modulové uspořádání programů a realizace těchto studijních progra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lupráce škol s odbornými pracovišti a s organizacemi zaměstnavatelů (při přípravě a realizaci studijních program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C07-F5A1-4752-93DB-0B897CB561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B - Rozvoj učitel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učitelských studijních programů počátečníh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dalšího vzdělávání a jejich real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programů pedagogické způsobilosti pro absolventy vysokoškolských programů nepedagogického zaměření a jejich realiz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zájemci o další studiu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F42-AB0A-4195-8B3C-A6481E0C2F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980640"/>
            <a:ext cx="626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C - Rozvoj dalšího vzdělávání </a:t>
            </a:r>
            <a:br>
              <a:rPr sz="2400"/>
            </a:b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na vysokých škol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a realizace rozšířené nabídky dalšího vzdělávání na vysokých školách v souladu s prosazováním aktivní politiky trhu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zájemci o další studium na vysokých školách, akademičtí pracovníci vysokých šk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E01-9F96-40D4-821E-81509FA25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5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D - Rozvoj lidských zdrojů v oblasti výzkumu a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orba a realizace programů dalšího vzdělávání  zaměřeného na oblast věcného a finančního řízení, inovačního podnikání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dnikání ve výzkumu, šíření výsledků vědy a výzkumu do praxe, transfer technologií a osvojování si znalostí o ochraně duševního vlastnictví pracovníků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akademičtí pracovníci vysokých škol, zaměstnanci institucí výzkumu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ývo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B68-DF17-44C3-915B-CAE55667AD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58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ýzva k předkládání žádostí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čena je pro podávání žádostí o financování projektů Konečných 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em je upřesnění podmínek pro podávání žád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veřejněna je elektronicky na webových stránkách MŠ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oficiálních stránkách ESF v ČR a dále ve dvou celostátních deníc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508-34AB-494A-8650-A7D334450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.Pösingerová</dc:creator>
  <dc:description/>
  <dc:language>en-US</dc:language>
  <cp:lastModifiedBy>prejzovaa</cp:lastModifiedBy>
  <dcterms:modified xsi:type="dcterms:W3CDTF">2005-12-19T13:46:10Z</dcterms:modified>
  <cp:revision>29</cp:revision>
  <dc:subject/>
  <dc:title>Úvod seminář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439103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4197294</vt:r8>
  </property>
  <property fmtid="{D5CDD505-2E9C-101B-9397-08002B2CF9AE}" pid="7" name="_ReviewingToolsShownOnce">
    <vt:lpwstr/>
  </property>
</Properties>
</file>